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919-E32D-404C-B8C6-80CFD9B6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285-7E8B-4A1C-900B-54E24C89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B74-2BF4-4CF8-AC6E-A8B5C71F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B85E-146C-42A8-B7B5-0957B964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812-2509-4C0E-8C76-7F250B8E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110C-8ECE-4861-981A-38230121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588-5283-471D-81AA-40EF0250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1BA-103F-4BE8-8143-0E5A878D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71A2-624B-4A6B-810F-50B04F73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A76-4D01-4BF6-9368-0C0ACC2F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4BF-50C5-4A36-8EA2-61DEE7EE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887-AF28-4F15-AF51-99B168F7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4848-411A-4FE4-99EB-39132F94E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1040" y="3048120"/>
            <a:ext cx="8440560" cy="150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Adult and Child survey!</a:t>
            </a:r>
            <a:br>
              <a:rPr sz="4800"/>
            </a:b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bias que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by Andrey Treyak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Questions (1-6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0720" y="1828800"/>
            <a:ext cx="9258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Is it true that men are braver then women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Is it true that girls are smater then bo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Do boys have better hair then girl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.Are boys stronger then girls physicall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.Are boys better then girls in sport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.Do boys run slower then girl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Questions (7-10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4152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7.Do girls attract more people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.Are girls better at teaching children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9.Are men always taller then women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0.Are women nicer then men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149800" y="5527800"/>
          <a:ext cx="147600" cy="36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9800" y="5527800"/>
                    <a:ext cx="147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62120" y="2201760"/>
          <a:ext cx="8636040" cy="45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1760"/>
                    <a:ext cx="863604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Vanessa Collier</cp:lastModifiedBy>
  <dcterms:modified xsi:type="dcterms:W3CDTF">2010-04-13T18:21:45Z</dcterms:modified>
  <cp:revision>5</cp:revision>
  <dc:subject/>
  <dc:title>PowerPoint Presentation</dc:title>
</cp:coreProperties>
</file>